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DF0-00F8-4916-BD1D-801870D5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835-771D-440A-9E62-D7612A8E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AD4-D255-4477-B4CE-74D275F1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2ED-FC86-498B-95E1-77799BEE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F2E-DBE0-46C5-917A-A73FE82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790-A149-4B34-BF12-D974B0BC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67B-D03F-475B-BE33-5BBFA2D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C5C-DF3A-4915-9811-EE33916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4B0-124B-4746-A6BE-A1810C9C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3BC-A536-4E5E-A6B7-91AEB0C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897-BC91-428F-9830-EA586FF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A10-39B4-4F5F-AB9F-E3A65C2C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273-EB4D-4E99-A1F2-E0CC7DCB5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nel 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. Bonica, R. Dube, K. Kompella, D. Meyer, E. R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ft-ietf-ccamp-tracereq-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ft-bonica-tunproto-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on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kind of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through data plane, control plane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Tunnel Tracing Protocol (G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 and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carries more information than ICMP Time Expir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in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hase discovers top level IP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details include identifier for supporting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phase discovers supporting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hases if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53:34Z</dcterms:created>
  <dc:creator>rbonica</dc:creator>
  <dc:description/>
  <dc:language>en-US</dc:language>
  <cp:lastModifiedBy>rbonica</cp:lastModifiedBy>
  <dcterms:modified xsi:type="dcterms:W3CDTF">2002-11-21T14:01:57Z</dcterms:modified>
  <cp:revision>6</cp:revision>
  <dc:subject/>
  <dc:title>Tunnel Tracing</dc:title>
</cp:coreProperties>
</file>